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E3FA-053E-4174-A0D3-FFC2897975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0C3C-01DC-4707-89C8-9CBAC8EC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629A-08EC-4411-B5A8-EA411DDF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25BB-3F23-419E-9C81-80D31A8CEF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D6CF-960C-4FDF-B802-87052E1C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A3C2-437C-41B1-B727-85D6F899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2AAE-FFE0-4390-A006-79F803C0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77C9-DE84-49AF-9D0B-5F3B14B8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4A78-6381-45FD-86AA-6C47F39E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99C0-C162-444F-9AAB-1E61CCF5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67E0-71F6-4369-940C-F2AEC3F9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E154-77E7-4D8A-9C57-79234938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CFA5-D0F5-428E-B469-A3F9074D91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节  吞咽训练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舌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被动运动：用吸舌器或纱布包住患者舌部，向前后、左右、上下各个方向行牵拉运动，有助于降低舌肌张力，每次牵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直到能主动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主动运动：指导患者舌前伸、后缩、侧方顶颊部、用舌舔上下唇、舔左右嘴角、卷舌，有利于提高舌的灵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抗阻运动：用勺子或压舌板在患者舌上进行按压、滑动等刺激，同时指导患者用力将舌向不同方向低压舌板，进行抗阻训练，帮助患者提高舌肌力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坐位训练以预防直立性低血压，每日逐渐抬高床头直到能独立坐起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，为进食训练打下良好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屏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发声训练   患者坐在椅子上，双手支撑椅面，做推压运动和屏气。此时胸廓固定、声门紧闭；然后，突然松手，声门大开，呼气发声。此运动可以训练声门的闭锁功能、强化软腭的肌力，同时有助于去除残留在咽部侧隐窝的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咽部冷刺激用冷冻的大头棉签，轻轻刺激患者软腭、舌根及咽后壁，左右相同部位交替刺激，然后嘱患者做空吞咽动作。寒冷刺激可以提高软腭和咽部敏感度，强化吞咽反射，减少唾液腺的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冰块刺激采用头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前屈仰卧体位，先用较小的冰块刺激口腔两侧黏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根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，然后咽下冰块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逐渐增加至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通过以上方法训练后患者若出现吞咽功能，即可开始进食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呼吸训练  采用腹式呼吸、缩唇呼吸训练，自己调节呼吸节奏，延长呼气时间，使呼吸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咳嗽训练  通过强化训练有效咳嗽，提高呼吸系统的反应性，促进咽喉部闭锁的效果，达到排出分泌物、预防误吸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2720" y="1270080"/>
            <a:ext cx="808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手法的应用根据病情，进食中选用合适的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声门上吞咽法：在吞咽前或吞咽时关闭真声带处的呼吸道（吸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闭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超声门上吞咽法：在吞咽前或吞咽时用力后送舌和关闭呼吸道入口并用力咽下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法：在咽部吞咽时增加舌根部后送的力量，清除会厌软骨的食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门德尔松手法：患者喉部可上抬时，指导患者做空吞咽动作，并使喉部保持在上抬的位置，此手法增强喉部上抬的幅度和时间，而延长环咽肌开放时间，改善吞咽的协调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进食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位：躯干直立，稍向前倾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患侧手放于桌上，颈部稍向前弯曲，使舌骨肌的张力增高，喉上抬，使食物容易进入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半坐位：躯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卧位，头部前屈，偏瘫侧肩部以枕垫起，喂食者位于患者健侧。此时进行训练，食物不易从口中漏出，利于食物向舌根运送，还可以减少鼻腔逆流及误咽的危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的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容易吞咽的食物特点：密度均匀、黏性适当、不易松散、通过咽和食道时易变形且很少在黏膜上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稠的食物比稀的安全，因为它能较满意地刺激触、压觉和唾液分泌，使吞咽变得容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兼顾食物的色、香、味及温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以偏凉食物为宜，冷刺激能有效强化吞咽反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具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勺底浅、容量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长柄匙适合舌的后送食物的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杯子上缘有一缺口的“斜口杯”，只需抬高杯子喝完杯内水，避免呛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在口中位置食物放在健侧舌后部或健侧颊部，有利于食物的吞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一口量进食的一口量和控制速度的一口量。正常人约为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以少量试之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酌情增加，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……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结合声门上吞咽。此方法防止吞咽时食物误吸入气管，吞咽后咳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除去残留在咽喉部的食物残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8816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吞咽：每次进食吞咽后，反复做几次空吞咽（至少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: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使食团全部咽下，再进食。可除去残留食物防止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交替吞咽：每次进食吞咽后饮极少量的水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既有利于刺激诱发吞咽反射，又能达到除去咽部残留食物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侧方吞咽：让患者分别左、右侧转头，作侧方吞咽，可除去梨状隐窝部的残留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吞咽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：指导患者将舌用力向后移动，帮助食物推进通过咽腔，以增大口腔吞咽压，减少食物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点头样吞咽：颈部尽量前屈形状似点头，同时作空吞咽动作，可去除会厌谷残留食物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低头吞咽：颈部尽量前屈姿势吞咽，使会厌谷的空间扩大，并让会厌向后移位，避免食物溢漏入喉前庭，更有利于保护气道，收窄气管入口，咽后壁后移，使食物尽量离开气管入口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51A3-70F1-4CA2-B22F-EE6D4357500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定义、分类、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评定方法、训练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训练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38080" y="304920"/>
            <a:ext cx="8055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2B9A-ED93-4168-8CC4-77B9582BE8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吞咽障碍的定义、训练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归纳摄食训练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够针对临床常见吞咽障碍采取不同的吞咽训练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B2E8-B8CB-4709-A680-3B29BC9F7D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71640" y="2421000"/>
            <a:ext cx="30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一、概   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677A-73FF-40FE-AFCF-643C2C12BB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由于下颌、双唇、舌、软腭、咽喉、食管括约肌或食管的结构和（或）功能受损，不能安全有效地把食物正常送到胃内的一个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629480" y="333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1190-6C35-444B-A9AD-359C2FBBB87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4720" y="191772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强用口进食的能力及安全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鼻饲机会，增强营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吸入性肺炎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加进食乐趣，增强康复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摄食吞咽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3704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76720" y="333000"/>
            <a:ext cx="1677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1341000"/>
            <a:ext cx="729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综合评估确定患者的吞咽障碍程度和吞咽障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个体化针对不同的患者，采取不同的吞咽训练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循序渐进根据患者的功能障碍情况进行训练和治疗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治疗和训练相结合在训练的基础上，通过合理的刺激，促进吞咽障碍的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BDE9-29DF-48CD-A1A3-327487485D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68360" y="2060640"/>
            <a:ext cx="4248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基础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摄食训练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62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局部肌肉运动控制训练   指导患者进行微笑、皱眉、鼓腮、张口、闭口、伸舌训练和双侧面部按摩，改善口、面、舌下颌的运动功能，促进主动收缩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6:16Z</dcterms:modified>
  <cp:revision>1</cp:revision>
  <dc:subject/>
  <dc:title>  第五章  康复护理技术</dc:title>
</cp:coreProperties>
</file>